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D02-3034-4B6B-9A79-FB2E9223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7C2-973F-4502-B3D5-80394C94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95F-8059-41B2-960C-CE0A106B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64E-F555-42F9-8CF2-8F4E99AF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C8E-4384-4965-BB2B-F3B1281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C20-C1AC-4AEA-B95E-4030460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89E-14B1-4048-86F0-00B0673F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B61-D2BB-4037-B0CE-2A0192B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A69-8BCC-46D9-AC33-AAA2194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AA1-31E2-4ABF-A6C2-B2CCA81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209-3820-4F05-97D5-E52ABB4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B70-95F5-4CAC-A0EA-1F9A3216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07FE-5C60-4EA5-8BCB-FA8EE032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95280"/>
            <a:ext cx="792504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Yukiko Shishik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Papyrus"/>
              </a:rPr>
              <a:t>Kumagawa On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Kuma River 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819680" cy="642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4191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 selling fried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2658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52578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celebration/dance festival (typical scenario for the performance of the Kumagawa O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418464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55880" y="228600"/>
            <a:ext cx="522144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tsushiro is a city on the island of  Kyush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86400" y="5029200"/>
            <a:ext cx="3048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iew of the Kuma River in Yatsush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5486400"/>
            <a:ext cx="1523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ce 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44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238880" y="5410080"/>
            <a:ext cx="9907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ma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3440"/>
            <a:ext cx="8229600" cy="653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0" y="3200400"/>
            <a:ext cx="23623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tami mats in a typical Japanes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90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609480"/>
            <a:ext cx="39621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kiko Shishikura’s elementary school in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0:05:48Z</dcterms:created>
  <dc:creator>Loren Fawcett</dc:creator>
  <dc:description/>
  <dc:language>en-US</dc:language>
  <cp:lastModifiedBy>Loren Fawcett</cp:lastModifiedBy>
  <dcterms:modified xsi:type="dcterms:W3CDTF">2006-01-31T14:11:59Z</dcterms:modified>
  <cp:revision>8</cp:revision>
  <dc:subject/>
  <dc:title>PowerPoint Presentation</dc:title>
</cp:coreProperties>
</file>